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media/zapbig0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FC3-6692-4D31-9207-17153C14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0D0-77D1-4B44-AF15-399FD0F0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5F1-6ABC-46FB-B761-B2FC75AF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BBB-35CC-4D0B-A66C-578B0C80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2DE-2078-4387-A55B-ADC97F43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20C-78B5-44D3-81E7-EE9823A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712-6D74-46B3-8A8F-BF520CB7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28B-7FF2-4FC2-9392-6DB088D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7CF-1039-412B-9239-CB4832B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8DF-8D12-4AF6-B07C-E834C18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7E7-24CD-40D9-A426-6A93FC43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9B4-C9E8-4787-B900-6C9793E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2975-DD28-4619-B4AD-97EBE75CC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zapbig0g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23720" y="1620720"/>
                <a:ext cx="130824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87920" y="1639800"/>
            <a:ext cx="505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If the denominators are the same, simply compare the numer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795320" y="2098800"/>
                <a:ext cx="777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2680" y="3951360"/>
                <a:ext cx="140472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87480" y="3959280"/>
                <a:ext cx="5828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1806480" y="442260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01800" y="4429080"/>
                <a:ext cx="7779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2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99960" y="1616040"/>
                <a:ext cx="135576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87920" y="1320840"/>
            <a:ext cx="535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f the denominators are not the same, get a common denominator by multiplying the denominator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00240" y="2633760"/>
                <a:ext cx="534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7440" y="2644920"/>
                <a:ext cx="48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3575160"/>
                <a:ext cx="489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3471840"/>
                <a:ext cx="1027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30400" y="4357800"/>
                <a:ext cx="581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719440" y="4351320"/>
                <a:ext cx="581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836720" y="475452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87920" y="4491000"/>
            <a:ext cx="535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other denominator by the original numerator to get new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18240" y="3276720"/>
            <a:ext cx="43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s is the new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800440" y="2635200"/>
                <a:ext cx="728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185840" y="4529160"/>
                <a:ext cx="4888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187280" y="2622600"/>
                <a:ext cx="77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36720" y="4530600"/>
                <a:ext cx="5382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43200" y="4762440"/>
                <a:ext cx="7776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208400" y="60372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n compare num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5E-006 -2.42775E-006 L -2.5E-006 0.12694 E">
                                      <p:cBhvr>
                                        <p:cTn id="8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0.0007 -0.00046 L -0.00086 0.11561 E">
                                      <p:cBhvr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3.05556E-006 -3.00578E-006 L -0.2349 -0.13942 E">
                                      <p:cBhvr>
                                        <p:cTn id="12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4.16667E-006 4.91329E-006 L 0.10486 -0.12671 E"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ompare. Use &gt;, &lt;, or = for     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76200" y="1616040"/>
                <a:ext cx="140508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587920" y="754200"/>
            <a:ext cx="522360" cy="52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57600" y="1628640"/>
                <a:ext cx="6300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800360" y="2092320"/>
            <a:ext cx="79668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7920" y="1320840"/>
            <a:ext cx="535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If the denominators are not the same, get a common denominator by multiplying the denominators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87280" y="2619360"/>
                <a:ext cx="5353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27440" y="2644920"/>
                <a:ext cx="48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0920" y="3575160"/>
                <a:ext cx="4892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90840" y="3444840"/>
                <a:ext cx="13701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80920" y="4344840"/>
                <a:ext cx="92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55720" y="4351320"/>
                <a:ext cx="92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836720" y="4754520"/>
            <a:ext cx="797040" cy="79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7920" y="4491000"/>
            <a:ext cx="535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Multiply the other denominator by the original numerator to get new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3276720"/>
            <a:ext cx="43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s is the new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825640" y="2646360"/>
                <a:ext cx="728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23760" y="4567320"/>
                <a:ext cx="8794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79360" y="2622600"/>
                <a:ext cx="777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4640" y="4533840"/>
                <a:ext cx="7844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43200" y="4762440"/>
                <a:ext cx="77760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208400" y="603720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n compare numera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-2.5E-006 -2.42775E-006 L -2.5E-006 0.12694 E">
                                      <p:cBhvr>
                                        <p:cTn id="18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animMotion origin="layout" path="M 0.0007 -0.00046 L -0.00086 0.11561 E">
                                      <p:cBhvr>
                                        <p:cTn id="19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animMotion origin="layout" path="M 3.05556E-006 -3.00578E-006 L -0.2349 -0.13942 E">
                                      <p:cBhvr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4.16667E-006 4.91329E-006 L 0.10486 -0.12671 E">
                                      <p:cBhvr>
                                        <p:cTn id="23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decimal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353960"/>
                <a:ext cx="193680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52920" y="169056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Hundredths means 2 decimal pl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81000" y="3075120"/>
                <a:ext cx="1462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4760" y="4092480"/>
                <a:ext cx="2033640" cy="17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enths means 1 decimal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97000" y="5829480"/>
                <a:ext cx="1096920" cy="78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decimal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95200" y="1382760"/>
                <a:ext cx="232416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652920" y="169056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Hundredths means 2 decimal pl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11320" y="3176640"/>
                <a:ext cx="1461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82480" y="4048200"/>
                <a:ext cx="164628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Tenths means 1 decimal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08160" y="5827680"/>
                <a:ext cx="1044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fraction or mixed number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17600" y="1731960"/>
                <a:ext cx="2081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638520" y="17636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 decimal places means hundred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84400" y="2397240"/>
                <a:ext cx="11937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2280" y="4383000"/>
                <a:ext cx="1790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 decimal place means te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52640" y="5124600"/>
                <a:ext cx="125244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rite a fraction or mixed number for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17600" y="1731960"/>
                <a:ext cx="2081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638520" y="176364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 decimal places means hundred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4400" y="2397240"/>
                <a:ext cx="11937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69800" y="4383000"/>
                <a:ext cx="16938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701880" y="4429080"/>
            <a:ext cx="50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 decimal place means te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00160" y="5124600"/>
                <a:ext cx="11556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79, 7 – 7 #1 – 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81, 7 – 8 #1 – 1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6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12-17T18:42:40Z</dcterms:modified>
  <cp:revision>93</cp:revision>
  <dc:subject/>
  <dc:title>Slide 1</dc:title>
</cp:coreProperties>
</file>